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BA23-9425-4706-AAB4-9326D07E6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2B0B-97F9-44D4-9FD4-BF28DC407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AB03-8DDE-4B2E-B82C-0444A2784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5A70-4008-4188-9A0F-1C3E484AC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3D2C-AC6E-4B10-8A45-FAE0B3617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01F3-320C-4472-B359-85E7423CD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3E4E-B229-4ED1-B927-98E7991B6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0474-76C2-49F5-B9F3-2476BD6BD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0285-6B94-49E8-806F-DF6227747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F9EA-3024-4ACB-922D-0363408A8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A6DA-B1CB-4CE6-A4AE-79A056D11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E6F3-2916-4747-9851-75BC7A9EF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3" name="Rectangle 17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Rectangle 19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Rectangle 20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22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23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25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26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27"/>
          <p:cNvGrpSpPr/>
          <p:nvPr/>
        </p:nvGrpSpPr>
        <p:grpSpPr>
          <a:xfrm>
            <a:off x="8228520" y="21960"/>
            <a:ext cx="862920" cy="847800"/>
            <a:chOff x="8228520" y="21960"/>
            <a:chExt cx="862920" cy="847800"/>
          </a:xfrm>
        </p:grpSpPr>
        <p:sp>
          <p:nvSpPr>
            <p:cNvPr id="14" name="Rectangle 28"/>
            <p:cNvSpPr/>
            <p:nvPr/>
          </p:nvSpPr>
          <p:spPr>
            <a:xfrm rot="10800000">
              <a:off x="8908920" y="6832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29"/>
            <p:cNvSpPr/>
            <p:nvPr/>
          </p:nvSpPr>
          <p:spPr>
            <a:xfrm rot="10800000">
              <a:off x="866952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30"/>
            <p:cNvSpPr/>
            <p:nvPr/>
          </p:nvSpPr>
          <p:spPr>
            <a:xfrm rot="10800000">
              <a:off x="844920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31"/>
            <p:cNvSpPr/>
            <p:nvPr/>
          </p:nvSpPr>
          <p:spPr>
            <a:xfrm rot="10800000">
              <a:off x="8908920" y="4528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32"/>
            <p:cNvSpPr/>
            <p:nvPr/>
          </p:nvSpPr>
          <p:spPr>
            <a:xfrm rot="10800000">
              <a:off x="8669520" y="4636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33"/>
            <p:cNvSpPr/>
            <p:nvPr/>
          </p:nvSpPr>
          <p:spPr>
            <a:xfrm rot="10800000">
              <a:off x="8449200" y="4636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Rectangle 34"/>
            <p:cNvSpPr/>
            <p:nvPr/>
          </p:nvSpPr>
          <p:spPr>
            <a:xfrm rot="10800000">
              <a:off x="822852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Rectangle 35"/>
            <p:cNvSpPr/>
            <p:nvPr/>
          </p:nvSpPr>
          <p:spPr>
            <a:xfrm rot="10800000">
              <a:off x="8669520" y="23472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Rectangle 36"/>
            <p:cNvSpPr/>
            <p:nvPr/>
          </p:nvSpPr>
          <p:spPr>
            <a:xfrm rot="10800000">
              <a:off x="8908920" y="23472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Rectangle 37"/>
            <p:cNvSpPr/>
            <p:nvPr/>
          </p:nvSpPr>
          <p:spPr>
            <a:xfrm rot="10800000">
              <a:off x="8908920" y="2160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ftr" idx="1"/>
          </p:nvPr>
        </p:nvSpPr>
        <p:spPr>
          <a:xfrm>
            <a:off x="7162560" y="6567120"/>
            <a:ext cx="1523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2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a83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A29A-35E7-47B9-9DFF-B3AE5E6D9A96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890&amp;from_4=1" TargetMode="External"/><Relationship Id="rId2" Type="http://schemas.openxmlformats.org/officeDocument/2006/relationships/hyperlink" Target="http://ege.edu.ru/ru/main/brief-glossary/" TargetMode="External"/><Relationship Id="rId3" Type="http://schemas.openxmlformats.org/officeDocument/2006/relationships/hyperlink" Target="http://ege.edu.ru/ru/main/brief-glossary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ge.edu.ru/ru/main/schedule/" TargetMode="External"/><Relationship Id="rId2" Type="http://schemas.openxmlformats.org/officeDocument/2006/relationships/hyperlink" Target="http://ege.edu.ru/ru/main/legal-documents/index.php?id_4=17622&amp;from_4=3" TargetMode="External"/><Relationship Id="rId3" Type="http://schemas.openxmlformats.org/officeDocument/2006/relationships/hyperlink" Target="http://ege.edu.ru/ru/main/schedule/" TargetMode="External"/><Relationship Id="rId4" Type="http://schemas.openxmlformats.org/officeDocument/2006/relationships/hyperlink" Target="http://ege.edu.ru/ru/main/schedule/" TargetMode="External"/><Relationship Id="rId5" Type="http://schemas.openxmlformats.org/officeDocument/2006/relationships/hyperlink" Target="http://ege.edu.ru/ru/main/schedule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622&amp;from_4=3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1.ege.edu.ru/content/view/572/115/" TargetMode="External"/><Relationship Id="rId2" Type="http://schemas.openxmlformats.org/officeDocument/2006/relationships/hyperlink" Target="http://www1.ege.edu.ru/content/view/697/274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622&amp;from_4=3" TargetMode="External"/><Relationship Id="rId2" Type="http://schemas.openxmlformats.org/officeDocument/2006/relationships/hyperlink" Target="http://ege.edu.ru/ru/classes-11/participant/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ge.edu.ru/ru/main/brief-glossary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s://edu.tatar.ru/" TargetMode="External"/><Relationship Id="rId5" Type="http://schemas.openxmlformats.org/officeDocument/2006/relationships/hyperlink" Target="https://edu.tatar.ru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ge.edu.ru/ru/classes-11/egerus/" TargetMode="External"/><Relationship Id="rId2" Type="http://schemas.openxmlformats.org/officeDocument/2006/relationships/hyperlink" Target="http://ege.edu.ru/ru/classes-11/egemath/" TargetMode="External"/><Relationship Id="rId3" Type="http://schemas.openxmlformats.org/officeDocument/2006/relationships/hyperlink" Target="http://ege.edu.ru/ru/main/legal-documents/index.php?id_4=17622&amp;from_4=3" TargetMode="External"/><Relationship Id="rId4" Type="http://schemas.openxmlformats.org/officeDocument/2006/relationships/hyperlink" Target="http://ege.edu.ru/ru/universities-colleges/perexam/" TargetMode="External"/><Relationship Id="rId5" Type="http://schemas.openxmlformats.org/officeDocument/2006/relationships/hyperlink" Target="http://ege.edu.ru/ru/universities-colleges/perexam_suz/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ge.edu.ru/ru/main/brief-glossary/" TargetMode="External"/><Relationship Id="rId2" Type="http://schemas.openxmlformats.org/officeDocument/2006/relationships/hyperlink" Target="http://ege.edu.ru/ru/main/main_ite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9640" y="162864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 проведении государственной (итоговой) аттестации выпускников  11-х классов в 2013 году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-4648320" y="5486400"/>
            <a:ext cx="16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132000" y="4365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талья Ивановна Уварова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заместитель директора по учебной работе МБОУ «Гимназия № 3» Вахитовского района г.Казан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" name="Picture 5" descr="коллаж2"/>
          <p:cNvPicPr/>
          <p:nvPr/>
        </p:nvPicPr>
        <p:blipFill>
          <a:blip r:embed="rId1"/>
          <a:stretch/>
        </p:blipFill>
        <p:spPr>
          <a:xfrm>
            <a:off x="250920" y="501336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2045ae"/>
              </a:gs>
              <a:gs pos="100000">
                <a:srgbClr val="0f205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" name="Рисунок 6" descr="of_sborka1aug.png"/>
          <p:cNvPicPr/>
          <p:nvPr/>
        </p:nvPicPr>
        <p:blipFill>
          <a:blip r:embed="rId2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е заявления на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76040"/>
            <a:ext cx="843588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Изменение предмета по выбору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 истечении сроков регистрации на ЕГЭ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, изменение указанных в заявлении экзаменов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 по общеобразовательным предметам возможно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олько при наличии у участника ЕГЭ уважительных причин (болезни или иных обстоятельств, подтвержденных документально)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В этом случае участник ЕГЭ подает заявление в 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ГЭК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 субъекта Российской Федерации </a:t>
            </a:r>
            <a:r>
              <a:rPr b="0" lang="ru-RU" sz="2400" spc="-1" strike="noStrike">
                <a:solidFill>
                  <a:srgbClr val="3dc5c5"/>
                </a:solidFill>
                <a:latin typeface="Arial"/>
              </a:rPr>
              <a:t>(МОиН РТ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(или 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ФЭК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dc5c5"/>
                </a:solidFill>
                <a:latin typeface="Arial"/>
              </a:rPr>
              <a:t>– МОиН РФ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) с указанием измененного перечня общеобразовательных предметов, по которым он планирует сдавать ЕГЭ, и причины изменения заявленного ранее перечня.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казанное заявление подается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е позднее чем за месяц до начала экзаменов (27 апреля)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для выпускни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076040"/>
            <a:ext cx="86421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В любой момент выпускник имеет право отказаться от сдачи 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предметов по выбор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при этом не нужно оформлять отказ документально. Можно просто не приходить на экзамен, который Вы решили не сдавать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(кроме обязательных русского языка и математики)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даже если в своем заявлении Вы вносили его в список предметов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 случае Вашей неявки на экзамен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общить зам. директора по УР Н.И.Уваровой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для выпускни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В случа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сутствия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выпускника на экзамен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 русскому языку и математик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 уважительной причин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день экзамен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необходимо представить оправдательный документ (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правку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и т.п.)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гимназию </a:t>
            </a:r>
            <a:r>
              <a:rPr b="1" lang="ru-RU" sz="3200" spc="-1" strike="noStrike">
                <a:solidFill>
                  <a:srgbClr val="0d75f3"/>
                </a:solidFill>
                <a:latin typeface="Arial"/>
              </a:rPr>
              <a:t>(зам.директора по УР  Н.И.Уваровой)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оки ЕГ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90360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сроки сдачи 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-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май-июнь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 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Некоторые категории выпускников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имеют право сдать ЕГЭ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осрочно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(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в апрел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) и в дополнительные сроки в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июл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диное для всех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расписание 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  ежегодно устанавливаются приказом Минобрнауки России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рочный этап сдачи ЕГ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Нижний колонтитул 2"/>
          <p:cNvSpPr/>
          <p:nvPr/>
        </p:nvSpPr>
        <p:spPr>
          <a:xfrm>
            <a:off x="7162920" y="656748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 Logo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-324000" y="907920"/>
            <a:ext cx="92170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ют право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ускники вечерних (сменных) школ, призванные в ряды Российской Армии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Выезжающие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на российские или международные</a:t>
            </a: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спортивные соревнования, конкурсы, смотры, олимпиады и тренировочные сборы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- Выезжающие за рубеж на постоянное место жительства или для продолжения обучения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- Направляемые по медицинским показаниям в лечебно-профилактические и иные учреждения для проведения лечебно-оздоровительных и реабилитационных мероприятий в период проведения государственной (итоговой) аттестации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50920" y="3213000"/>
            <a:ext cx="86421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(в проекте)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апреля (суббота) – русский язык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 апреля (вторник) – математика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 апреля (пятница) – иностранный язык, геграфия, химия, история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апреля (понедельник) – информатика, биология, обществознание, литература, физика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Рисунок 6" descr="of_sborka1aug.png"/>
          <p:cNvPicPr/>
          <p:nvPr/>
        </p:nvPicPr>
        <p:blipFill>
          <a:blip r:embed="rId1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исание ЕГЭ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Проект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27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я (понедельник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–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30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ма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информатика и информационно-коммуникационные</a:t>
            </a:r>
            <a:br>
              <a:rPr sz="2400"/>
            </a:b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технологии (ИКТ), биология, история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3 июня (понедельник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– математика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6 июн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иностранные языки (английский, французский, немецкий, испанский), физика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10 июня (понедельник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обществознание, химия;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13 июн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география, литература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Информация  о сроках проведения ЕГЭ утверждается МОиН РФ, регистрируется в Минюсте до 1 апреля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ки пересдачи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468360" y="1052640"/>
            <a:ext cx="86756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Для участников ЕГЭ - выпускников 2013 года, получивших на государственной (итоговой) аттестации в форме ЕГЭ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дин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удовлетворительный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результа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 русскому языку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атематике, 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а также</a:t>
            </a:r>
            <a:r>
              <a:rPr b="0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 сдавшие ЕГЭ по уважительной причине</a:t>
            </a:r>
            <a:r>
              <a:rPr b="0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редусмотрены </a:t>
            </a:r>
            <a:r>
              <a:rPr b="1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резервные дни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5 июня (суббота) – информатика и информационно-коммуникационные технологии (ИКТ), биология, история, физика, иностранные языки (английский, французский, немецкий, испанский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7 июня (понедельник) – обществознание, география, литература, химия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8 июня (вторник) – русский язык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9 июня (среда) – математика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04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В случае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овпадения сроков проведения ЕГЭ по отдельным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щеобразовательным предметам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участники ЕГЭ допускаются к сдаче ЕГЭ по соответствующим общеобразовательным предметам в дополнительные сроки – резервные дни (см. предыдущий слайд).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Например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Экзамены по выбору: биология и история.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30 мая – ЕГЭ по биологии,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15 июня (резервный день) – история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ГИА для обучающихся с ограниченными возможностями здоровь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9647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Может проводится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на ППЭ (в общей или отдельной аудитории)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на дому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Продолжительность ГВЭ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величивается на 1,5 часа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списание ГВЭ – 2013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27 мая (понедельник) -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3 июня (понедельник) - математика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Для выпускников, пропустивших ГВЭ по уважительным причинам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8 июня (вторник) -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9 июня (среда) - математика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24000" y="133200"/>
            <a:ext cx="85377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рядок проведения ЕГЭ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 2013 году</a:t>
            </a:r>
            <a:br>
              <a:rPr sz="2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9200" y="981000"/>
            <a:ext cx="8394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(приказ Минобрнауки России от 11 октября 2011 ода № 2451 «Об утверждении порядка проведения единого государственного экзамена», зарегистрирован в Минюсте РФ 31.01.2012 № 23065)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ИРУЕТ: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последствия нарушений участниками ЕГЭ и лицами, привлекаемыми к его проведению, нормы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 запрете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использования в пунктах проведения ЕГЭ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редств связи и электронно-вычислительной техники 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(телефон и калькулятор)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в случае выявления нарушения следует удаление из пункта; решение вопроса о допуске участника ЕГЭ к повторной сдаче экзамена принимается экзаменационной комиссией по результатам проверки факта удаления);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присутствие в пунктах проведения ЕГЭ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рассмотрении апелляций 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граждан, аккредитованных в качестве общественных наблюдателей;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усил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и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лиц, привлекаемых к проведению ЕГЭ, и участников ЕГЭ за разглашение содержащихся в КИМ сведений.</a:t>
            </a:r>
            <a:br>
              <a:rPr sz="1800"/>
            </a:br>
            <a:r>
              <a:rPr b="1" lang="en-US" sz="1800" spc="-1" strike="noStrike">
                <a:solidFill>
                  <a:srgbClr val="2045ae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  <p:grpSp>
        <p:nvGrpSpPr>
          <p:cNvPr id="113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14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рмативные документы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ложение о формах и порядке проведения государственной (итоговой) аттестации обучающихся, освоивших основные общеобразовательные программы среднего (полного) общего образования, утверждённым приказом Министерства образования и науки Российской Федерации от 28 ноября 2008 г. № 362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рядок проведения единого государственного экзамена, утверждённым приказом Министерства образования и науки Российской Федерации от 11 октября 2011 г. № 2451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рядок проведения государственного выпускного экзамена, утвержденным приказом МОиН РФ от 3.05.2009г.)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Распоряжение Рособрнадзора от 29.08.2012г № 3499-1 о «Об установлении минимального количества баллов единого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государственного экзамена по общеобразовательным предметам»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риказ Минобрнауки России от 22 января 2013 г. № 24 г. Москва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Об утверждении сроков, единого расписания, формы и продолжительности проведения государственного выпускного экзамена по русскому языку и математике в 2013 году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риказ Министерства образования и науки Российской Федерации (Минобрнауки России) от 25 февраля 2010 г. N 140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"Об утверждении Положения о медалях "За особые успехи в учении""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18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Стрелка вниз 5"/>
          <p:cNvSpPr/>
          <p:nvPr/>
        </p:nvSpPr>
        <p:spPr>
          <a:xfrm>
            <a:off x="4319640" y="99684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a0aff"/>
          </a:solidFill>
          <a:ln w="25560">
            <a:solidFill>
              <a:srgbClr val="14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50920" y="1484280"/>
            <a:ext cx="8713800" cy="475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й закон №104 от 3.06.2009 г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О внесении изменений в Кодекс РФ об административных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онарушениях…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арушение законодательства в области образования…» -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ил в действие с 1 декабря 2009г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19.30 п.4 КоАП РФ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…Нарушение … установленного порядка проведени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ой (итоговой) аттестации влечет наложение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дминистративного штраф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на граждан – от 3 тысяч до 5 тысяч рублей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на должностных лиц – от 20 тысяч до 40 тысяч рублей…»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2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 flipV="1" rot="10800000">
            <a:off x="1369800" y="-1152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ственность за нарушения установленного поряд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1"/>
          <p:cNvSpPr/>
          <p:nvPr/>
        </p:nvSpPr>
        <p:spPr>
          <a:xfrm>
            <a:off x="7162920" y="656748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 flipV="1" rot="10800000">
            <a:off x="899640" y="215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стема контроля на ЕГЭ - 201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Содержимое 4"/>
          <p:cNvSpPr/>
          <p:nvPr/>
        </p:nvSpPr>
        <p:spPr>
          <a:xfrm>
            <a:off x="395280" y="1341360"/>
            <a:ext cx="844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Привлечение общественных наблюдателей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Надзор работников прокуратуры и МВД в ППЭ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Использование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технических средств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Выезд на ППЭ уполномоченных представителей Государственной экзаменационной комиссии Республики Татарстан для осуществления проверки соблюдения установленного порядка проведения ЕГЭ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Рисунок 6" descr="of_sborka1aug.png"/>
          <p:cNvPicPr/>
          <p:nvPr/>
        </p:nvPicPr>
        <p:blipFill>
          <a:blip r:embed="rId1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grpSp>
        <p:nvGrpSpPr>
          <p:cNvPr id="128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29" name="Picture 13" descr=""/>
            <p:cNvPicPr/>
            <p:nvPr/>
          </p:nvPicPr>
          <p:blipFill>
            <a:blip r:embed="rId2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8" descr="Герб Республики Татарстан"/>
            <p:cNvPicPr/>
            <p:nvPr/>
          </p:nvPicPr>
          <p:blipFill>
            <a:blip r:embed="rId3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015920"/>
          <a:ext cx="8559720" cy="4789440"/>
        </p:xfrm>
        <a:graphic>
          <a:graphicData uri="http://schemas.openxmlformats.org/drawingml/2006/table">
            <a:tbl>
              <a:tblPr/>
              <a:tblGrid>
                <a:gridCol w="4136760"/>
                <a:gridCol w="4422960"/>
              </a:tblGrid>
              <a:tr h="92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алены за использование средств связи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 выпускник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1147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збуждено административных дел в отношении участников ЕГЭ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 в том числе в отношении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 выпускников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</a:tr>
              <a:tr h="183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вместно с МВД по РТ выявлена схема фальсификации результатов ЕГЭ в Апастовском районе. По решению ГЭК РТ аннулированы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боты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2"/>
                    </a:solidFill>
                  </a:tcPr>
                </a:tc>
              </a:tr>
              <a:tr h="874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ннулированы результаты за размещение КИМ в сети Интерне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бот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Азнакаевский, Алькеевский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3"/>
          <p:cNvSpPr/>
          <p:nvPr/>
        </p:nvSpPr>
        <p:spPr>
          <a:xfrm>
            <a:off x="227160" y="-27000"/>
            <a:ext cx="82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я  при проведени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ого государственного экзамена в 2011 году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Номер слайда 1"/>
          <p:cNvSpPr/>
          <p:nvPr/>
        </p:nvSpPr>
        <p:spPr>
          <a:xfrm>
            <a:off x="476280" y="6566040"/>
            <a:ext cx="6094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3A7E-3648-4F82-B7FB-0464E4494772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35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91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ъяснения по поводу использования калькуляторов на ЕГЭ по общеобразовательным предмета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9036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о время выполнения экзаменационных рабо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физике, химии и географи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разрешается пользоватьс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программируемыми калькуляторам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. Калькуляторы 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должны обеспечивать арифметические вычисления (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сложение, вычитание, умножение, деление, извлечение корня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) и вычисление тригонометрических функций (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s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g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ctg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sin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os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tg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)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Таким требованиям отвечают инженерные (или научные) непрограммируемые калькуляторы. Они обладают возможностями вычисления всех элементарных функций, естественного отображения чисел и редактирования введенных выражений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е допускается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 использование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участниками ЕГЭ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граммируемых инженерных калькуляторов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у которых имеется указание на соответствующие функции в названии марки калькулятора либо на панели присутствует кнопка, отвечающая за функции программирования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ъяснения по поводу использования калькуляторов на ЕГЭ по общеобразовательным предмета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онструктивные особенности калькуляторов должны исключать возможность получения экзаменующимися дополнительной, не предусмотренной условиями проведения экзамена, информации: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лькуляторы не должны предоставлять возможность сохранения в своей памяти баз данных экзаменационных заданий и их решений, а также любой другой информации, знание которой прямо или косвенно проверяется на экзамене;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лькуляторы не должны предоставлять экзаменующемуся возможности получения извне какой бы то ни было информации во время сдачи экзамена. Их коммуникационные возможности не должны допускать беспроводного обмена информацией с любыми внешними источниками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НИМАНИЕ! </a:t>
            </a: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Всё приносимое оборудование передается организатору в аудитории для контроля. В случае несоответствия принесенного экзаменующимся оборудования вышеуказанным требованиям организатор имеет право не выдавать это оборудование для использования в процессе сдачи экзамена, а возвратить его только после завершения экзамена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08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решено пользоваться во время ЕГЭ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Математика - линейка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правочные материалы, которые можно использовать во время экзамена, выдаются каждому участнику ЕГЭ вместе с текстом его экзаменационной работы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Физика - линейка и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оме того, каждый КИМ содержит справочные данные, которые могут понадобиться при выполнении работы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Химия -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акже к каждому варианту экзаменационной работы прилагаются следующие материалы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иодическая система химических элементов Д.И. Менделеева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аблица растворимости солей, кислот и оснований в воде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лектрохимический ряд напряжений металлов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География - линейка, транспортир,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Иностранный язык -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олнительные материалы и оборудование на экзамене по иностранному языку включают звуковоспроизводящую аппаратуру, аудиокассеты или компакт-диски (CD) с материалами для выполнения заданий раздела 1 "Аудирование". 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324000" y="1177920"/>
            <a:ext cx="84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бавлены новые/скорректированы задания в КИМ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 истории, географии, обществознанию, русскому языку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совершенствованы критерии оценивания заданий с развернутым ответом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 истории, литературе, обществознанию, русскому языку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точнены формулировки и требования заданий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КИМ по всем предметам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сводной таблице перечислены планируемые изменения, касающиеся структуры, содержания, системы оценивания экзаменационных работ ЕГЭ 2013 г. по каждому общеобразовательному предмету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пецификациях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по всем предметам уточнена информация в разделах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Изменения в КИМ ЕГЭ 2013 г. в сравнении с 2012 г.»; «Система оценивания выполнения отдельных заданий и экзаменационной работы в целом» (в части информации о порядке назначения 3-го эксперта)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ремя проведения экзаменов, на которые отводилось 4 часа, в соответствии с требованиями СанПиН сокращено на 5 минут (с 240 до 235 минут), что отражено в разделе «Продолжительность ЕГЭ»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5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46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2"/>
          <p:cNvSpPr/>
          <p:nvPr/>
        </p:nvSpPr>
        <p:spPr>
          <a:xfrm>
            <a:off x="663480" y="18900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Математика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Биология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Химия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Физика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Иностранные языки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Русский язык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принципиальных изменений н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1. Изменен формат задания А1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Уточнены критерии проверки и оценки выполнения заданий с развернутым ответом (критерий К1)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3. На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0 минут (со 180 до 210) увеличено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время выполнения работы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География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1. Количество заданий в части 2 сокращено с 14 до 13. Соответственно, общее количество заданий сократилось с 44 до 43, а максимальный первичный балл за выполнение всех заданий работы – с 54 до 53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В КИМ 2013 г. включено новое задание базового уровня сложности (А24), проверяющее умение определять и сравнивать по разным источникам информации географические тенденции развития социально-экономических процессов и явлений и задание повышенного уровня сложности (В5), проверяющее умение решать задачи на определения различий во времени в разных часовых зонах.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История </a:t>
            </a:r>
            <a:r>
              <a:rPr b="1" i="1" lang="ru-RU" sz="1400" spc="-1" strike="noStrike">
                <a:solidFill>
                  <a:srgbClr val="2045ae"/>
                </a:solidFill>
                <a:latin typeface="Arial"/>
              </a:rPr>
              <a:t>– изменения </a:t>
            </a: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существенные</a:t>
            </a:r>
            <a:r>
              <a:rPr b="1" i="1" lang="ru-RU" sz="1400" spc="-1" strike="noStrike">
                <a:solidFill>
                  <a:srgbClr val="2045ae"/>
                </a:solidFill>
                <a:latin typeface="Arial"/>
              </a:rPr>
              <a:t> (в структуре и содержании КИМ) 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Общее направление совершенствования КИМ – усиление блока заданий, проверяющих аналитические и информационно-коммуникативные умения выпускников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Часть 2 увеличена с 12 до 13 заданий. Добавлены блоки заданий на работу с исторической картой (В8–В11) и иллюстративным материалом (В12–В13). В целях оптимизации проверки</a:t>
            </a:r>
            <a:r>
              <a:rPr b="0" lang="ru-RU" sz="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сформированности комплекса умений, связанных с анализом исторического источника, изменена структура задания В9 (по нумерации 2012 г.) на работу с историческим источником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При выполнении задания В10 (по нумерации 2012 г.) на систематизацию исторической информации (выбор лишнего термина из предложенного ряда) требуется указать цифру, которой обозначен правильный ответ, а не выписать сам термин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В части 3 изменена структура задания С5. Новое задание предполагает приведение аргументов как в поддержку, так и в опровержение оценки определенного исторического явления, процесса. Максимальный балл за правильное выполнение задания С5 увеличен с 3 до 4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В задании С6 представлены не три, а четыре исторических деятеля, один из которых изучается в курсе Всеобщей истории. Задание С6 также усовершенствовано в направлении большей формализации при оценивании работ. По отдельному критерию (К3) оценивается указание основных результатов деятельности исторической личности. Максимальный балл, который можно получить за правильное выполнение задания С6, увеличен с 5 до 6.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ЕГЭ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диный государственный экзамен (ЕГЭ) – это одна из форм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государственной (итоговой) аттестаци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которая проводится для выпускников образовательных учреждений, освоивших основные общеобразовательные программы среднего (полного) общего образования (10,11 классы)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 очной, очно-заочной (вечерней), заочной формах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Обществознание – </a:t>
            </a:r>
            <a:r>
              <a:rPr b="1" i="1" lang="ru-RU" sz="18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1. Усложнено задание В5. Общее количество приведенных в условии задания суждений увеличивается с четырех до пяти. Экзаменующиеся должны распределить их по трем, вместо прежних двух, группам: суждения-факты, суждения-оценки, суждения – теоретические утверждения. Данное изменение позволит выявлять умение различать в текстах социальной направленности важный и широко представленный в них компонент – положения теории, на которых базируется современное научное обществознание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2. Темы, предлагаемые для написания эссе, сгруппированы в пять блоков вместо прежних шести. Темы, раскрываемые с учетом положений социологии и социальной психологии, теперь включаются в одно общее направление. Экзаменуемый при написании эссе получает возможность использовать положения и понятийный аппарат каждой из этих общественных наук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3. Скорректированы требования задания С9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4. Усовершенствованы критерии оценивания заданий С5, С8, С9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Литература – </a:t>
            </a:r>
            <a:r>
              <a:rPr b="1" i="1" lang="ru-RU" sz="20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ущественно усовершенствована система проверки и оценивания выполнения сопоставительных заданий С2 и С4. Внесены уточнения в инструкции к заданиям. 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Информатика и ИКТ – </a:t>
            </a:r>
            <a:r>
              <a:rPr b="1" i="1" lang="ru-RU" sz="20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1. Одно задание с кратким ответом по теме «Кодирование текстовой информации» заменено на задание по теме «Рекурсивные алгоритмы» раздела «Элементы теории алгоритмов»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2. Немного изменена последовательность заданий во второй части работы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55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 ЕГЭ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250920" y="1071720"/>
            <a:ext cx="867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 по всем общеобразовательным предметам в субъектах Российской Федерации начин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.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стному времени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должительность ЕГЭ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математике, физике, литературе, информатике и информационно-коммуникационным технологиям (ИК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 часа 55 мин.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235 минут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русскому языку</a:t>
            </a:r>
            <a:r>
              <a:rPr b="0" lang="ru-RU" sz="1800" spc="-1" strike="noStrike">
                <a:solidFill>
                  <a:srgbClr val="0d75f3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истории, обществозн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,5 часа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210 минут)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биологии, географии, химии,  по иностранным языкам (английский, французский, немецкий, испански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 часа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80 минут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времени по иностранным языкам на 20 минут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63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51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процедуре экзаме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97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Экзамены проводятся в пунктах приёма экзаменов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ППЭ)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Начало экзамена – 10.00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Сбор в день экзамена в гимназии в 8.00-8.45 (организовано в сопровождении учителя отправление в ППЭ). 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бучающийся при себе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олжен иметь: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аспорт,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опуск,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 гелиевые ручки (чёрный цвет)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15 мин.до окончания экзамена </a:t>
            </a:r>
            <a:r>
              <a:rPr b="1" lang="ru-RU" sz="2000" spc="-1" strike="noStrike" u="sng">
                <a:solidFill>
                  <a:srgbClr val="0033cc"/>
                </a:solidFill>
                <a:uFillTx/>
                <a:latin typeface="Arial"/>
              </a:rPr>
              <a:t>все выпускники, оставшиеся в аудитории, ожидают окончания экзамена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 выходе: поставить отметку на ППЭ в пропуске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окно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Бланки ЕГЭ сданы») – штамп и подпись организатора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ыпускник текущего года узнает свои индивидуальные результаты ЕГЭ не позднее 3-х рабочих дней со дня их утверждения ГЭК одним из следующих способов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 гимназии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сайте 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www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rcmco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org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в разделе </a:t>
            </a: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«Сервис «Участник ЕГЭ»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(в соответствии с требованиями законодательства Российской Федерации в области защиты персональных данных)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 о среднем (полном) общем образован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Результаты ЕГЭ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не влияют на оценк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по соответствующим предметам в аттестате, но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т успешной сдачи ЕГЭ по двум обязательным предметам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(русскому языку и математике) зависит получение аттестата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Чтобы получить аттестат, у выпускника должны быть результаты ЕГЭ по русскому языку и математике, не ниже установленных минимальных значений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ряжением Рособрнадзора установлен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инимальное количество баллов по основным предмет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ЕГЭ в 2013 году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 русскому язык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 –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6 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тестовых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(17 первичных) баллов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 математик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4 тестовых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 (5 первичных) баллов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Если выпускник текущего года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учает результат ниже минимального количества баллов по одному из обязательных предметов (русский язык или математика),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то он 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ожет пересдать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этот экзамен в этом же году. Сделать это можно в резервные дни в текущем году, которые устанавливаются приказом Министерства образования и науки Российской Федерации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04920" y="228600"/>
            <a:ext cx="8526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имальные пороги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6560" y="762120"/>
          <a:ext cx="8209080" cy="55702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Минимальное значение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Биолог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стор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Географ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Литература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ностранные языки (английский, французский, немецкий, испанский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8578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сли выпускник текущего года получает результаты ниже минимального количества баллов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 русскому языку,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 по математике,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он смож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есдать ЕГЭ только в следующем год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 Таким образом, выпускник не получит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текущем год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свидетельства о результатах ЕГЭ, а 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место аттестата ему должна быть выдана справка об обучении в школе.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заполнения бланков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При заполнении </a:t>
            </a:r>
            <a:r>
              <a:rPr b="1" lang="ru-RU" sz="2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бланков ЕГЭ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необходимо точно соблюдать </a:t>
            </a:r>
            <a:r>
              <a:rPr b="1" lang="ru-RU" sz="28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правила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, так как информация, внесенная в бланки, сканируется и обрабатывается с использованием специального технического оборудования и средств вычислительной техники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ключ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Некоторые категории выпускников имеют право на прохождение государственной (итоговой) аттестации в форме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государственного выпускного экзамен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(ГВЭ),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или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четать обе формы: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выпускники с ограниченными возможностями здоровья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выполнению работы по русскому язык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выполнение экзаменационной работы по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скому языку даётся 3,5 часа (210 минут)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Часть 1 (А1-А30)</a:t>
            </a:r>
            <a:br>
              <a:rPr sz="2800"/>
            </a:b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Среднее время выполнения каждого задания, как показывает практика, от 1 до 3 минут. Ориентировочное время выполнения этой части работы – 60 мину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Часть 2 (В1-В8)</a:t>
            </a:r>
            <a:br>
              <a:rPr sz="2800"/>
            </a:b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выполнение каждого задания требуется от 3 до 7 минут. Ориентировочное время выполнения второй части работы – 30 мину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оформлению работы по русскому языку.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Часть 2 (В1-В8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Ответы заданиям следует сформулировать самостоятельно и записать, при этом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ответ следует записать в бланке ответов №1 справа от номера задания, начиная 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с первой клеточк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каждый символ (буква или цифра) записывается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в отдельную клеточку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начертание символов должно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соответствовать образцам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ри записи ответов 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белы не используются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, поэтому многословный ответ записывается слитно, например: 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акая мама =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акаямама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слова или числа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при перечислении 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зделяются запятой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запятая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записывается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в отдельную клеточку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рядок записи цифр в ответе В8 имеет значение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 оформлении задания В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 выполнении заданий этой части запишите ваш ответ в бланке ответов № 1 справа от номера задания (В1 – В8), начиная с первой клеточки. Каждую букву или цифру пишите в отдельной клеточке в соответствии с приведёнными в бланке образцами. Слова или числа при перечислении отделяйте запятыми. Каждую запятую ставьте в отдельную клеточку. При записи ответов пробелы не используются.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Если экзаменуемый оформил свой ответ на задание В8 без запятых, компьютерная программа наверняка зачтёт его как верный, но лишь в том в случае, есл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оследовательность цифр в ответе будет указана правильно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. Часть 3 (С1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Рекомендуемое время выполнения задания – 90 - 100 минут. </a:t>
            </a: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Эта небольшая письменная работа по тексту (сочинение), выполняется по исходному тексту и проверяется экспертами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очинение-рассуждение имеет чёткую структуру и логику и должно строиться по определённым законам: в нём должны быть тезис и аргументы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объём сочинения - не менее 150 слов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очинение следует писать аккуратно, разборчивым почерком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Работа не засчитывается (оценивается 0 баллов), задание считается </a:t>
            </a: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невыполненным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, если: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насчитывает менее 70 слов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написано без опоры на прочитанный текст (не по данному тексту)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едставляет собой пересказанный или полностью переписанный исходный текст без каких бы то ни было комментариев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уктура экзаменационной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076400"/>
            <a:ext cx="85690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Экзаменационная работа по математике состоит из двух частей, включающих в себя 20 заданий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Часть 1 содержит 14 заданий с кратким ответом (В1–В14) базового уровня по материалу курса математики. Ответом является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целое число или конечная десятичная дробь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Часть 2 содержит 6 более сложных заданий (С1–С6) по материалу курса математики. При их выполнении надо записать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ное решение и отве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выполнению работы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На выполнение экзаменационной работы по математике да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 часа 55 минут (235 минут)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Часть 1 (В1 — В14)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Для записи решений и ответов на задания используйте бланк ответов № 1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Задание считается выполненным, если верный ответ зафиксирован в той форме, которая предусмотрена инструкцией по выполнению задания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Ответом на задания части 1 является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Arial"/>
              </a:rPr>
              <a:t>целое число или конечная десятичная дробь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Ответ следует записать справа от номера выполняемого задания, начиная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Arial"/>
              </a:rPr>
              <a:t>с первой клеточки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ждую цифру, знак «минус» и запятую пишите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 отдельной клеточке</a:t>
            </a: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 в соответствии с приведенными в бланке образцами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Единицы измерений писать не нужно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Дать ответы на часть 1, которая является общеобразовательной, необходимо будет всем выпускникам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школ. Существенная часть примеров в базовой части предполагает проверку того, как человек научился выполнять алгоритмизированные действия и делать выводы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Часть 1 проверяется с помощью компьютера. Поэтому следует обращать внимание на правильное оформление ответов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ка. Часть 2 (С1-С6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Для записи решений и ответов используйте бланк ответов № 2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Запишите сначала номер выполняемого задания, а затем полное обоснованное решение и отв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Возможны различные способы решения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Должно быть записано полное обоснованное решение задачи и отв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Формы записи решения и ответа могут быть произвольными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Часть 2 проверяют эксперты. Главное требование — решение должно быть математически грамотным, из него должен быть понятен ход рассуждений автора работы. Полнота и обоснованность рассуждений оцениваются независимо от выбранного метода решения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ценка экзаменационной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авильный ответ в зависимости от сложности каждого задания оценивается одним или несколькими баллами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Баллы, полученные за все выполненные задания, суммируются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авильное решение каждого из заданий части 1 (В1-В14) приносит 1 первичный балл. Максимальное количество баллов — 14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Все задания части 2 (С1 — С6) оцениваются от 0 до 4 баллов. </a:t>
            </a: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За правильное решение каждого из заданий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1 и С2 – 2 балла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3 и С4 – 3 балла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5 и С6 – 4 балла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ерно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выполнен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 менее пяти задан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экзаменационной работы отвечает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минимальному уровню знаний выпускника школы по математике.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ксимальное количество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ичных баллов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за всю работу —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2.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вичные баллы преобразуются в тестовые баллы.</a:t>
            </a:r>
            <a:br>
              <a:rPr sz="1800"/>
            </a:b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32 первичных балла соответствуют 100 тестовым баллам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ПЕЛЛЯ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 нарушении процедуры проведения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экзамена –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в день проведения экзамена, не выходя из ОУ-ППЭ руководителю ППЭ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 несогласии с выставленными баллами (отметкой)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в течение 3-х дней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после официального объявления результатов экзамена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елляц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 нарушении установленного порядка проведения ЕГЭ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44704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дается участником ЕГЭ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день экзамена,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не покидая ППЭ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Действия участника ЕГЭ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от организатора в аудитории форму 2 ППЭ (2 экземпляра), по которой составляется апелляция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составить апелляцию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2-х экземплярах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ередать оба экземпляра уполномоченному представителю ГЭК, который обязан принять и удостоверить их своей подписью, один экземпляр отдать участнику ЕГЭ, другой передать в конфликтную комиссию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информацию о времени и месте рассмотрения апелляции конфликтной комиссией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915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уск к государственной (итоговой) аттеста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К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допускаются выпускники, имеющие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тоговы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тметки по всем общеобразовательным предметам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за X, XI (XII) классы не ниже удовлетворительных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Решение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 допуске к ГИА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принима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дагогический совет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образовательного учреждения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оформляя его соответствующим приказом не позднее 25 мая текущего года.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елляц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 нарушении установленного порядка проведения ЕГ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Конфликтная комиссия рассматривает апелляцию о нарушении установленного порядка проведения ЕГЭ не более 2-х рабочих дней и выносит одно из решений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отклонение апелляции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удовлетворение апелляции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 случае 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удовлетворения апелляции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зультат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ЕГЭ участник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ннулируется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и участнику предоставляется возможность сдать ЕГЭ по данному предмету в другой день (резервный), предусмотренный единым расписанием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подач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елляции о несогласии с результатами ЕГ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Подается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течение 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2-х рабочих дней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после официального объявления индивидуальных результатов экзамена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и ознакомления с ними участника ЕГЭ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образовательное учреждение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йствия участника ЕГЭ при подаче апелляции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076400"/>
            <a:ext cx="87138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составить апелляцию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2-х экземплярах, (получив бланки в гимназии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один экземпляр передать куратору ЕГЭ в гимназии (один экземпляр оставить у себя)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информацию о времени и месте рассмотрения апелляции у куратора ЕГЭ гимназии (через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 классного руководителя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рийти на процедуру рассмотрения апелляций в конфликтную комиссию, имея при себе паспорт и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пропуск с печатью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«Бланки ЕГЭ сданы» (или штампом ППЭ)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При рассмотрении апелляции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место участника ЕГЭ или вместе с ним могут присутствовать его родители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(законные представители),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которые должны иметь при себе паспорта.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 желанию участника ЕГЭ его апелляция может быть рассмотрена без его присутствия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идетельство о результатах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– это документ, который выдается лицам, участвовавшим в ЕГЭ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свидетельство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е заносятся результаты об экзаменах, по которым не преодолен минимальный порог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  Однако информация обо всех сданных участником ЕГЭ предметах заносится в 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едеральную базу данных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выдается в гимназии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астнику ЕГЭ или его родителям (законным представителям) при предъявлении документа, удостоверяющего личность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цу, уполномоченному участником ЕГЭ, на основании документа, удостоверяющего его личность, и оформленной в установленном порядке доверенности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действует до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1 декабря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года, следующего за годом его получения (31.12.2014г.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24000" y="12492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бедители олимпиад и другие льготники имеют право на зачисление в вуз вне конкурса только в одно учебное заведение и на одну специальность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ьготники смогут подать документы в пять вузов, но в четырех из них они будут проходить конкурс на общих основаниях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210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7"/>
          <p:cNvSpPr/>
          <p:nvPr/>
        </p:nvSpPr>
        <p:spPr>
          <a:xfrm>
            <a:off x="351000" y="190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Льготникам разрешили поступать только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один вуз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3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18960"/>
            <a:ext cx="8496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русском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зы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1-х классах (25.12.2012г., РЦМКО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1143000"/>
          <a:ext cx="8070840" cy="5510160"/>
        </p:xfrm>
        <a:graphic>
          <a:graphicData uri="http://schemas.openxmlformats.org/drawingml/2006/table">
            <a:tbl>
              <a:tblPr/>
              <a:tblGrid>
                <a:gridCol w="2847960"/>
                <a:gridCol w="1622160"/>
                <a:gridCol w="1800360"/>
                <a:gridCol w="180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Зайнутдинова Резеда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4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8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7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2,5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11-х классах (18.12.2012г. РОО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143000"/>
          <a:ext cx="785484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5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8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режим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-line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русском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зы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в 11-х класса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1143000"/>
          <a:ext cx="799920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7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8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7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1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режим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-line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1-х класса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3520" y="1143000"/>
          <a:ext cx="785484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9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6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7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132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е обеспеч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Э и ГИА - 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68360" y="1413000"/>
            <a:ext cx="3276720" cy="1989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Портал ЕГЭ, ГИ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http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: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//ege.edu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rustest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http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pi.r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788000" y="1989000"/>
            <a:ext cx="3322440" cy="1564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Сайт республиканского центра мониторинга качества образовани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889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rcmko.or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50920" y="3933720"/>
            <a:ext cx="3720960" cy="1746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Сайт МОиН Р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«Государственная (итоговая) аттестация выпускников 9 и 11 классов в 2012 году»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mon.tatarstan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716360" y="1052640"/>
            <a:ext cx="3322800" cy="764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61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телефон горячей линии МОиН РТ: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292-24-3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7" name="Группа 7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228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356000" y="3860640"/>
            <a:ext cx="437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айт МБОУ «Гимназия №3»: </a:t>
            </a:r>
            <a:r>
              <a:rPr b="0" lang="en-US" sz="18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US" sz="18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edu.tatar.ru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Образовательные учреждения, Вахитовский район, МБОУ «Гимназия №3»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Информация о ЕГЭ и ГИА в 2013 году»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3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замен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075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Для получения </a:t>
            </a: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аттестата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 о среднем (полном ) общем образовани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обязательными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являю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предмета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 по русскому язык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и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ЕГЭ по математик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Остальные экзамены называются 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экзаменами по выбор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, их количество определяет сам выпускник. Выбор предметов ЕГЭ, сдаваемых на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добровольной основ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, должен быть основан на перечне вступительных испытаний для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вузов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или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ссузов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по выбранному направлению подготовки (специальности).   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бщее количество экзаменов - не более 6-ти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(согласно ФЗ «Об образовании»)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ача заявления на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явлени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на участие в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с указанием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предметов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которые выпускник собирается сдавать, 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необходимо пода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поздне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март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в своей школе.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а данных выпускников (БД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БД выпускников заполняется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до 7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арт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в субъекте РФ, т.е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Республике Татарстан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апрел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формируется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диная БД выпускников РФ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я информации для Б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090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чины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теря паспорта: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срочно сообщить в гимназию,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при получении нового паспорта срочно принести ксерокопию документа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уратор ЕГЭ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– Наталья Ивановна Уварова (236-75-12),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зам. диретора по УР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50:13Z</dcterms:created>
  <dc:creator>Your User Name</dc:creator>
  <dc:description/>
  <dc:language>en-US</dc:language>
  <cp:lastModifiedBy>Zavuch</cp:lastModifiedBy>
  <cp:lastPrinted>2012-02-27T16:24:38Z</cp:lastPrinted>
  <dcterms:modified xsi:type="dcterms:W3CDTF">2013-02-26T13:44:36Z</dcterms:modified>
  <cp:revision>212</cp:revision>
  <dc:subject/>
  <dc:title>PowerPoint Template</dc:title>
</cp:coreProperties>
</file>